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dt" idx="25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 type="sldNum" idx="27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9D46-EF87-4292-B1E0-5AFCE430E210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应该是这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733-8561-4593-BE37-0296E700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400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7BC-A19F-4B99-ABB9-9CC723E7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4104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0F2-6051-4FAF-A03A-C85444B1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64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888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40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64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888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F8F-09ED-49E3-AE11-ED1163BF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7DAF-96C6-4D9C-8347-7F5BA62B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AFE6-D8F1-48E0-8C91-6D01F29A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B4AE-DFE8-4328-88B8-79FA15B6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7B0B-5C09-43B6-878C-D5067FA3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922C-176F-4D54-9FCB-E1726E0F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19E5-08B2-40BD-8410-136C4ED9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74E1-0660-4084-BFD2-4AEEFAA4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4C7-DFA2-4DC0-B298-EC441505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4104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AF2C-A6F1-4F22-897F-5FF65608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7B6C-6D9C-4479-9397-D3C15D83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00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7FEE-7519-463A-83D8-0603269D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4104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B2E7-E6FE-48A7-BC43-B4AD59D2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064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888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240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064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888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EF48-7882-4C3A-8DCB-251E50B8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8A6E-4B64-4FC8-A7C5-33B2C84F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85E0-E406-40B6-94AB-3C57DC63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A434F-4B5F-4AE9-A060-8848D3AD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7D70-70EE-4791-88C8-BBCA8411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69A2-B016-40CD-8640-4C7B6BC9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27A-887D-419F-BF0A-3F0AAE64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0DB1A-78B2-435C-A60A-2BC7E62B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48FD0-BCA7-445B-832F-EF14A770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4104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C05BB-2A49-46F6-BA2D-2ACDBD4A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6E2FC-4903-48D4-9C2F-842339B4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ECE32-D2EC-4B1D-8111-BE1ED684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4104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ABD1-2A43-4BD1-BA75-F03036D5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064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8888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064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8888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84AF3-0025-47E4-AE85-592B81FA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77FA7-7660-4969-B466-15343E05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D9DA1-8EFB-41CF-9CB8-B2893E62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7D7A7-0038-44D3-BF37-97464D10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FD2-19B2-4ED5-86BA-986E40C9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A55E7-1640-4A4F-A04A-5D562B70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C4D5E-7147-4A4B-8B73-C120F82B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B964E-DC15-4AA1-B0BA-F16CF8E4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82B8E-3709-4EB5-86F9-129BA999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4104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585DE-56F2-4B8F-BBE0-43DD2854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D87DA-77EA-4DFE-A99F-59FE8230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400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30DC0-58C3-430E-966B-0E6F1261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4104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B2337-91A6-46A8-9A66-F732649A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064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8888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240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064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88888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BF394-71F8-4AE8-BF59-2FD71C98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6C896-1364-4A85-945E-74A463C5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DEB-E2BF-4F02-8162-6CE02784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AA12A-AEB7-43E5-A0C0-C8B6B826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2F3DD-C917-45A3-B66A-C29D8D0F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95392-47B4-4205-BE0A-FEFD77D2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EE6C8-85B2-49E0-8364-FE1D7E1D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5E69B-F937-44CE-859B-AE38F8F5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D7E94-4D57-4E2B-9A7C-3E7B2DDA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4104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04D25-F2F7-4BD9-A7AF-3E262160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C0A2D-DB21-440E-9EB3-CD965948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00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7F8A6-15A5-4646-A3C4-0700A714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4104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345F7-9588-4CF2-84A9-783F11C1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D1F-6128-48D3-9A02-BB37534E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064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88888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240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064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88888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314B5-65F5-49F4-907A-B410F0EA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6239C-03B6-48C4-A85B-E90E1FCA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66DB9-D3A0-4786-8AA5-89DDE8EE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5584A-090D-42CE-B856-946E92BA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5869D-9F53-4FF1-B931-FB1B0F48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68639-EEFE-4C2C-B13A-46FCB77C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D5AFE-77EF-471E-8853-B478A9D3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C8AFD-2396-4DED-A856-C314C34D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4104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D61EC-2EA4-42EA-903B-CD061DAC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EA886-CB94-482E-9274-EA7FF6B9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97A-CDEE-4AEE-9ABD-64B1A0E9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400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2446E-B722-44B6-BBEE-55BB7A17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4104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0BDA3-69FA-4C76-96B4-32736458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1064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88888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240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1064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88888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1A7BB-AECF-4BF1-B810-0846F96E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2798D-07AD-4330-A182-C3458B8B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6AFE8-70F5-4090-B755-7A501BB8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9DA98-CB4B-4932-9BB3-FFE2DB60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8957F-ABCD-4C9B-AA60-1B6E8E79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1A194-1123-45DD-B658-C4801A4A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F1FB3-D2A4-4295-A098-2D5BECDB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F3302-A6D0-44D3-9DA0-47A0567B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4104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301-8F07-4F4D-908C-72975288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4104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FEC4D-4119-47BE-9CD0-9924A87E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7AF2E-3059-4017-9B47-FD0CAA1E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400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41008-02B8-4F8E-A117-D508ABDC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4104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FD15A-679C-4437-B682-2A16C26E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064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88888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240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064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88888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C8894-3B1E-43E2-802B-CC601564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CC805-B570-4DF1-920E-1BD68DA1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A60BE-27A2-41C2-9743-E0280277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BCD21-AA97-455B-9631-D8506DED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19AD3-497B-45FD-A261-E0F9F59B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0FAE9-A9ED-4053-B02F-15C05C4B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789-1D71-4C68-8D91-844DAD44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7B54C-BA54-45ED-91FC-1DB724B1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7D402-D75A-4E00-A870-A03447E1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4104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6CB8B-B8B9-4423-A7FB-5ABC65CA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5B896-BE30-453E-8AAD-8D21712C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400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3FAF7-95D2-44AE-99B5-E6837AA8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4104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240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4104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E37B2-762C-4B3C-9E34-EF8B4F4D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1064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88888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3240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1064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88888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32813-3443-42F6-AC46-8AECA8EE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7000" y="-28440"/>
            <a:ext cx="9209160" cy="6895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D2AA-605A-4570-A9E7-2DA65122C0AE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47520" y="-19080"/>
            <a:ext cx="9227880" cy="6902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AC62-7F06-4DFF-A0F7-05FFCE1AEB67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27000" y="-28440"/>
            <a:ext cx="9209160" cy="6895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6A34-7C77-440B-958E-8C71D3327B2B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47520" y="-19080"/>
            <a:ext cx="9227880" cy="6902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15C9-AE84-4CC3-9300-25298F4A824A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8" name="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B5BD-3584-48D1-95B4-D5AFC627DFE6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" name="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065C-BD6B-4980-805C-3B7331CE5EF9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-27000" y="-28440"/>
            <a:ext cx="9209160" cy="68958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8240-C1DF-427F-A5DA-72EC2097EE25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-47520" y="-19080"/>
            <a:ext cx="9227880" cy="69026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80CE-D6F0-4EEC-A61B-8B298F4DC031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360" y="2565000"/>
            <a:ext cx="55404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中宋"/>
                <a:ea typeface="华文中宋"/>
              </a:rPr>
              <a:t>赢在高考</a:t>
            </a:r>
            <a:br>
              <a:rPr sz="6000"/>
            </a:br>
            <a:r>
              <a:rPr b="1" lang="zh-CN" sz="6000" spc="-1" strike="noStrike">
                <a:solidFill>
                  <a:srgbClr val="ffffcc"/>
                </a:solidFill>
                <a:latin typeface="华文中宋"/>
                <a:ea typeface="华文中宋"/>
              </a:rPr>
              <a:t>轻松带毕业班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774880" y="4149720"/>
            <a:ext cx="4680000" cy="26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郭召良 教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北京师范大学 心理学博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教育部考试研究中心  特聘研究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《高考金刊》栏目主持专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高考三轮复习法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第一轮复习   夯实基础，查漏补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教学重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系统回顾基本知识点，精讲重点和难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帮助学生理清知识之间的内在联系，形成知识系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具体做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抓基础、抓课本、做配套试题是最佳办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重要举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模拟试题不要给出具体分数，或者分数总分可以不确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要求把做错的题改正过来，消除前进过程中的障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高考三轮复习法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第二轮  综合复习，系统整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教学重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从试题为载体，训练学生从全科内容角度看待知识联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注重跨单元知识或者学科知识间的横向联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具体做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安排单元练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以书本为核心，整理知识单元间的相互关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重要举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多做综合题，促进知识之间联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用最少的语言总结全书的内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高考三轮复习法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第三部 实战演习，追求卓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教学重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提高实战能力和考试分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提高解题能力和解题技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防止题海战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具体做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分析考卷，明确努力方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考前要准备看试题集，而不是解试题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重要举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始于模拟练习，终于课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多总结，少解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高考三轮复习法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第三部 实战演习，追求卓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考前特别指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考前，最好不要用新的参考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考前，不要去解决新的问题，而应该把精力放在整理学过的问题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越是有信心的科目和内容，到考前的时候就越要重新复习一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己擅长的科目也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天看一遍，否则会找不着感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三轮复习法告诉我们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以纲为纲，以本为本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基础知识和基本技能的掌握全面扎实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不能舍本逐末，为了解题而解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两个关键词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547640" y="4076640"/>
            <a:ext cx="4091040" cy="1362960"/>
            <a:chOff x="1547640" y="4076640"/>
            <a:chExt cx="4091040" cy="1362960"/>
          </a:xfrm>
        </p:grpSpPr>
        <p:sp>
          <p:nvSpPr>
            <p:cNvPr id="439" name=""/>
            <p:cNvSpPr/>
            <p:nvPr/>
          </p:nvSpPr>
          <p:spPr>
            <a:xfrm>
              <a:off x="1547640" y="4220640"/>
              <a:ext cx="1368000" cy="703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Tahoma"/>
                </a:rPr>
                <a:t>课本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48480" y="4220640"/>
              <a:ext cx="790200" cy="703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Tahoma"/>
                </a:rPr>
                <a:t>试题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88000" y="4509000"/>
              <a:ext cx="1584720" cy="3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916000" y="4725000"/>
              <a:ext cx="1656360" cy="720"/>
            </a:xfrm>
            <a:prstGeom prst="line">
              <a:avLst/>
            </a:prstGeom>
            <a:ln w="38160">
              <a:solidFill>
                <a:srgbClr val="66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4720" y="4076640"/>
              <a:ext cx="12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应用知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32000" y="4797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巩固知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解题能力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K</a:t>
            </a:r>
            <a:r>
              <a:rPr b="0" lang="zh-CN" sz="5400" spc="-1" strike="noStrike">
                <a:solidFill>
                  <a:srgbClr val="ffffcc"/>
                </a:solidFill>
                <a:latin typeface="Arial"/>
              </a:rPr>
              <a:t>试卷分析技术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习惯性的重复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并不能导致学习成绩的提高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明白问题之所在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是提高学习成绩的起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K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试卷分析技术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从试卷中发现学生存在的问题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K</a:t>
            </a: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试卷分析技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技能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l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缺失型错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分明会做，反而做错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很有把握的题，却没做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明明会而且非常简单的题，却是落笔就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知识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欠缺型错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第一遍做对了，后来改错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第一遍做错了，后来改对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回答不严密、不完整的等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不会做题（回忆不起来，缺乏思路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带出效果，带出成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不仅要抓教师的“教”，也要抓学生的“学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只有学生掌握了，教学才算成功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只要解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考试成绩就能提高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K</a:t>
            </a: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试卷分析技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型错误解决办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思想重视，把它当成问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错误进行定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审题错误、计算错误、抄写错误、笔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确定改进方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审题错误：慢审题，快解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计算错误：草稿演算规范、复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抄写错误：抄写慢，复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笔误：复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确定错误改进目标，并且在考前写下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考后进行总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K</a:t>
            </a: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试卷分析技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型错误解决办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策略：突出重点，全力以赴，集中兵力攻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确定主要失分领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搞清楚它是属于哪章？哪节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要在搞懂弄通上下功夫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静下心来，翻翻书，找到那章那节那个知识点，认真读一读，深入思考思考，细细回味回味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如果还搞不懂，就要请教老师和同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找这类型题演练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直到事先确定的正确率（如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0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％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寻找下一个目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K</a:t>
            </a: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试卷分析技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试卷分析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确定错误类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型：审题错误、抄写错误、计算错误、笔误…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型：落实到具体章节（如函数、不等式、直线和圆、圆锥曲线、排列组合、概率统计、极限导数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统计错误失分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型错误：按类别统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型错误：按章节统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确定改进目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型错误：确定一个主要错误类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型错误：确定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-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个主要失分最多章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教师能做什么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指导学生对试卷进行分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帮助学生找到学科方面存在的知识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根据学生共同存在的问题，进行专题训练和针对性的联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Arial"/>
              </a:rPr>
              <a:t>考前能力突破训练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记忆力和解题力训练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许多学生讨厌记忆，把背诵基本知识点与“死读书”联系起来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</a:rPr>
              <a:t>不记住必要的知识就无法应用知识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</a:rPr>
              <a:t>素质教育也需要好记忆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</a:rPr>
              <a:t>提高记忆效果就成为高考能力突破的关键之一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</a:rPr>
              <a:t>四大战法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</a:rPr>
              <a:t>有效提高记忆效果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讲座主题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解析高考成功要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最优高考复习计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试卷分析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考前能力突破训练计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学生考试心理辅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记忆力突破训练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战法原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及时复习，防止遗忘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基本战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在被窝里温习当天记过的内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次日早上利用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分钟时间复习巩固昨天晚上学过的内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记忆力突破训练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战法原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化整为零，负荷减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基本战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记忆时间化整为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将整个记忆时间分成几个部分，在一天中多次安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抓紧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分钟记忆的技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记忆内容拆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将记忆内容分成若干个小部分，分部分记忆，然后在串起来，用句首（关键词）连成一句话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记忆力突破训练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战法原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交叉安排，利于区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基本战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同一个记忆时段内记忆不同学科的内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要长时间记忆（与其他思维活动、知识整理活动、阅读活动、生活劳动等）交叉安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记忆力突破训练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战法原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过度学习，记得更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基本战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每周、每月要回顾学过内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把容易忘记的内容记到“备忘笔记本”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把怎么也记不住的内容写到手掌上会取得好的记忆效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记忆力突破训练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记忆不仅是学生的事情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也是教师的事情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教师能够做什么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重视学生知识点记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抽查学生记忆掌握情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搜集整理学科知识点的具体记忆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耕耘于“题海”之中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学生辛苦，老师也辛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谁是成功的母亲？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失败？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失败并不一定导致成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只有反思和总结才能导致成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解题能力突破训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道生一，一生二，二生三，三生万物。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万物负阴而抱阳，冲气以为和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老子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&lt;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道德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四十二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考试成功三棱锥理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04044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ahoma"/>
                <a:ea typeface="黑体"/>
              </a:rPr>
              <a:t>一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核心（概念或原理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ahoma"/>
                <a:ea typeface="黑体"/>
              </a:rPr>
              <a:t>两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种变化（条件与问题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ahoma"/>
                <a:ea typeface="黑体"/>
              </a:rPr>
              <a:t>三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种方法（解决方案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ahoma"/>
                <a:ea typeface="黑体"/>
              </a:rPr>
              <a:t>万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形式（具体问题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题海战术的谬误在于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以一应一，以万应万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正确的做法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以三应万，归为一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简而言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从“万”种找出“三”      </a:t>
            </a:r>
            <a:r>
              <a:rPr b="0" i="1" lang="zh-CN" sz="2800" spc="-1" strike="noStrike">
                <a:solidFill>
                  <a:srgbClr val="0000cc"/>
                </a:solidFill>
                <a:latin typeface="Tahoma"/>
              </a:rPr>
              <a:t>适当练习发现题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从“三”中找到“二”      </a:t>
            </a:r>
            <a:r>
              <a:rPr b="0" i="1" lang="zh-CN" sz="2800" spc="-1" strike="noStrike">
                <a:solidFill>
                  <a:srgbClr val="0000cc"/>
                </a:solidFill>
                <a:latin typeface="Tahoma"/>
              </a:rPr>
              <a:t>从题型中发现变化规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从“二”归于“一”          </a:t>
            </a:r>
            <a:r>
              <a:rPr b="0" i="1" lang="zh-CN" sz="2800" spc="-1" strike="noStrike">
                <a:solidFill>
                  <a:srgbClr val="0000cc"/>
                </a:solidFill>
                <a:latin typeface="Tahoma"/>
              </a:rPr>
              <a:t>从变化中找到不变的核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解题能力突破训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学会审题（审题能力的进阶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读懂试题，不跑题（说什么？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明确试题的知识范围（涉及什么内容？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明确题型（有哪些解法？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明确出题用意（考什么？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解题能力突破训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学会解题（解题能力进阶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解题规范（书写步骤没问题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按照既定方法正确解题（解题方法没问题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完全掌握同类问题的各种解法 （全部方法都掌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灵活运用各种解题方法（灵活应用没问题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解题能力突破训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解题得分的五个关键环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600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读懂试题，不跑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600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联系知识，不偏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600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步骤规范，不扣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600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解题正确，不丢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600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思路灵活，不留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解题能力突破训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读懂试题突破训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问题表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以想象代替实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忽略或者添加已知条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训练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『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读完试题不做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『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行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勾画出关键词与数量关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解题能力突破训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审题能力突破训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问题表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审题出现方向性的错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面对新题型无从下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训练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联系课本知识，准确定位测试范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仅要做题，还要思考“这题考什么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解题能力突破训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解题规范训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问题表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步骤不规范被扣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训练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比例题与自己解题差距，明确努力方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严格按照解题规范解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教师严格把关，对不规范行为“重扣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考试成功三棱锥理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96360" y="2133360"/>
            <a:ext cx="40388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努力：学习努力是动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00"/>
                </a:solidFill>
                <a:latin typeface="Tahoma"/>
              </a:rPr>
              <a:t>有目标就有动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00"/>
                </a:solidFill>
                <a:latin typeface="Tahoma"/>
              </a:rPr>
              <a:t>变压力为动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方法：方法正确是基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00"/>
                </a:solidFill>
                <a:latin typeface="Tahoma"/>
              </a:rPr>
              <a:t>会学习、会考试，天下无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00"/>
                </a:solidFill>
                <a:latin typeface="Tahoma"/>
              </a:rPr>
              <a:t>学习方法：听课、解题、阅读、记忆</a:t>
            </a:r>
            <a:r>
              <a:rPr b="0" lang="en-US" sz="2000" spc="-1" strike="noStrike">
                <a:solidFill>
                  <a:srgbClr val="660000"/>
                </a:solidFill>
                <a:latin typeface="Tahoma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00"/>
                </a:solidFill>
                <a:latin typeface="Tahoma"/>
              </a:rPr>
              <a:t>考试方法：应考、考试发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4514760" y="23796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解题能力突破训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解题技能突破训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问题表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有些题型不会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训练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试卷分析法诊断并发现学生不会做的弱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有针对性的进行专项训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解题能力突破训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解题能力提升训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问题表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于难题无处下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训练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培养题型意识，做题后多进行反思和总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多做审题能力训练，实战解题少一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解题思维能力训练自助问题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审题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仔细阅读问题认真理解题意了吗？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黑体"/>
              </a:rPr>
              <a:t>题目主要涉及那些章节（或那些方面）的知识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解题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最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我首先决定采取什么方法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黑体"/>
              </a:rPr>
              <a:t>有什么线索提示或者什么样的经验告诉你用这种方法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如果遇到阻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黑体"/>
              </a:rPr>
              <a:t>思考类似的一些问题，我过去是怎样解决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黑体"/>
              </a:rPr>
              <a:t>寻找不同的解决办法：有那些方法与这类问题有关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如果还遇到阻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让自己冷静下来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黑体"/>
              </a:rPr>
              <a:t>我可能要重新分析这个问题（审题）  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我可能需要换一个思路来考虑            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解题思维能力训练自助问题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解题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检查自己的答案是否正确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黑体"/>
              </a:rPr>
              <a:t>我是怎样解答出这道题的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黑体"/>
              </a:rPr>
              <a:t>这道题有什么特点，它和以前做过的题有相似之处吗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黑体"/>
              </a:rPr>
              <a:t>如果给这种题型，取一个名字你愿意把它叫什么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做这道题有收获吗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Arial"/>
              </a:rPr>
              <a:t>学生考试心理辅导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消除焦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增强自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消除考试焦虑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参加高考，人人有隐忧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消除考试焦虑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有焦虑是好事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它能激发自己学习的动力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消除考试焦虑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把焦虑不安写下来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就能消除不安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消除考试焦虑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考场上深呼吸能消除焦虑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消除考试焦虑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考试前，每天做一件与学习无关而又擅长的事情更够预防“不安”心理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考试成功三棱锥理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24000" y="2089080"/>
            <a:ext cx="468144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效率：效率提高是关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00"/>
                </a:solidFill>
                <a:latin typeface="Tahoma"/>
              </a:rPr>
              <a:t>劳逸结合、科学用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00"/>
                </a:solidFill>
                <a:latin typeface="Tahoma"/>
              </a:rPr>
              <a:t>交叉安排、高效学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心态：心态积极是保障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00"/>
                </a:solidFill>
                <a:latin typeface="Tahoma"/>
              </a:rPr>
              <a:t>我自信，我成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00"/>
                </a:solidFill>
                <a:latin typeface="Tahoma"/>
              </a:rPr>
              <a:t>考试焦虑和担忧危害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rcRect l="13681" t="0" r="0" b="0"/>
          <a:stretch/>
        </p:blipFill>
        <p:spPr>
          <a:xfrm>
            <a:off x="5052960" y="2276640"/>
            <a:ext cx="34862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消除考试焦虑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考试前，心中不断重复“心情已经非常平静”的话语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增强自信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成功者与失败者的唯一区别是什么？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增强自信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成功者坚信自己能够成功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而失败者对能否成功抱持怀疑态度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增强自信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成功阶梯步步高（概率观念）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每天都说“我能行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回忆成功（而不是失败）经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增强自信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想象成功（情景）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回顾复习历程（耕耘有多少）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改错题，考后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欺软怕硬，多做容易题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塑造良好心理氛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举重若轻，别把高考太当回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别立倒计时牌，安排好复习计划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不要强调排名，重视问题解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塑造良好心理氛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拓宽视野，解决好学习之外的问题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师生关系、同学关系也会影响学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处理好学生恋爱问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塑造良好心理氛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恰当安排，改善复习心态和学习效率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不要将全部时间用于学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适当安排班级体育活动、文娱活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塑造良好心理氛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因人而异，激励方法各有不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9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优等生、中等生、落后生的激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901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压力大学生、压力小学生的激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欢迎访问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4000" y="34570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郭博士心理咨询网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ww.zixunshi.co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考试成功三棱锥理论告诉我们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仅有努力是不够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仅强调多花时间，多做题是不够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考试成功三棱锥理论告诉我们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方法、效率和心态的改进也是重要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应该把更多注意力放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方法的改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效率的提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心态的调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Arial"/>
              </a:rPr>
              <a:t>高考复习安排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－高考三轮复习的教学重点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3:14:0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cp:lastPrinted>1899-12-30T00:00:00Z</cp:lastPrinted>
  <dcterms:modified xsi:type="dcterms:W3CDTF">2013-04-13T11:58:32Z</dcterms:modified>
  <cp:revision>21</cp:revision>
  <dc:subject>主题班会课件(分28大类): http://shop62905894.taobao.com</dc:subject>
  <dc:title>主题班会课件(分28大类): http://shop62905894.taobao.com</dc:title>
</cp:coreProperties>
</file>